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9EF-D1F6-49ED-82F7-B3DF7BF8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EA8A-416B-4588-ADF6-225A74AD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D9C8A-4D64-484E-89AE-E206EE73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9174A-0B3D-43AB-B78D-135B852C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9E4BAB-0A5F-4AAA-99D7-F5737420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0A46C-4D40-4847-AD93-0166A144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C3B6D-F6BE-47DD-94C2-33584683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656AF-5E61-4AA0-BCBD-C5835965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73557-888A-4CC1-8D83-6E06EE68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11658-AD85-4DD8-A53B-B8FB1C02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A545B-3BB0-402E-B9A9-D564B57D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19A6D-85BE-478D-990B-AD3CE94D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A83-1E1F-4D99-AA31-A7724384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0B730-BACC-47B1-A203-EFE1A2DE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4B6466-BB98-483B-B21B-F7C7E1B0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C950E5-4C04-478E-A318-A4CA438C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6D93A2-70CD-4805-93A2-1C7594BF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9C089B-97D1-45B2-8AFC-BBB26DDC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196D32-8715-4B1A-BC90-2164FF41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94B58-77FE-49A7-980F-62E76F4E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D639F-D75C-45C3-997A-39C99367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A62DCD-B2A9-4077-B483-CE8A36D4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B9FC0D-A963-4BB0-A0AA-B6855219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1FEF-E0D7-4C15-9745-E29ADA17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3E60A-A388-4226-8B34-D9A2267C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7C3BD-C6A8-4795-A579-7470CA9E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9B5DC-759F-42D6-81B8-7F051514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5A1F2-B7E4-4F5F-8E8B-4E4E05D2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1BEDF-2932-4086-B0FF-A3BBDA9E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30B06-244F-4D19-BC1E-01EE42EE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DFC27-D657-4DD4-B8E3-9F5DF085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29B92-AE18-4B24-97A1-822DA4B3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BAB59-46BD-4746-9C34-805E0C66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46486-5338-4AA7-BCC0-24F4656E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84FD-EF87-41C4-AE2E-88021725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A6623-FDDD-48CF-A633-4E26DC13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CA2B9-19D0-415C-9388-DE856753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31DC2-D6E2-4A38-9785-51E3DCAB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7588F-D969-40F5-AB4D-E563F9D2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9E546-323B-463F-B55A-435BC173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D5CFC-6309-4E38-BE8A-D26E602F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C6ECB9-4935-4394-A728-7D8E13C1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C665A-8203-4442-BE48-999C97C7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CD25C7-C984-434B-A083-C988F2CD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503B3-E602-4996-96DB-603CD459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A1A8-7573-455D-8CFA-15501DD9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667F0-E091-4D03-BAEA-D45930B0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1A075-BADF-4E1C-B4EA-B62711CB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B46E9E-8F1F-4B5D-AA33-6613316D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B5F49-2EB2-4371-9D04-1AF54F68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E9F5B-7D25-4767-9AC2-AE78D61F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0D1F-4C33-49D8-B231-81806960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509A-7513-4E8F-832F-A9A51229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BAEC-A366-4FE5-B8F1-A3F85296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128A-3896-4627-A7D0-D9B7FFAA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955C-9AF5-4291-9A3A-A83E6B9A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957-1C15-4AD1-A862-015B4345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9367-EEBC-43B8-809C-105CEB01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B430-E184-4AAC-87C2-47D04400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EB25-A5C3-425E-9B25-BDD3364F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B6C1-B445-40B6-999C-D3875CF4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44A7-2CCF-474D-A9D1-99196840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2801B-57CA-4555-82F4-ACDD2309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3296-7A3C-4204-A6A0-4BADFFA1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D56B4-4E81-4B67-91E2-4AFC5A42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06BC0-D6B4-4C8C-A63A-E985FFBA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470D8-852C-4A0A-84AE-AC1BA664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A17-74A5-4A44-BDA8-5C3BDDE8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E440B-D315-4EF8-B384-F48124D5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B1860-7EFC-4D4D-B133-44AAC07A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C661F-66B2-4637-B3E4-97676100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035EA-DF1D-4266-914B-7CAFE8D3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79BD7-5A52-4086-BE3A-28F6812C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9C0C3-6B0E-4230-B321-D522E174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317D-C3E4-4248-924A-7481A27D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DAACE-5A65-4A20-885B-E64A34CC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DF8D3-E7F7-4AF0-8A72-5E05DA8A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54136-8594-4DA5-9FC6-17A493B6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6FF-3856-453A-9088-8545A0D4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E84D2-1178-4FE1-930A-4CA4B35F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C4B7A-ADE0-47EB-BE58-377DA9FC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9D347-3AB7-442E-94C2-7BF6091D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B314F-B4F4-46C3-B497-EAF0B1DF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54619-C452-4701-9B5F-682C1E8F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8B524-6A26-4009-A630-7EFEA2AF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0AB17-2CD1-404D-8E60-537507C8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1F0E2-B3BB-45FC-B8B8-A3CEACE0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B341C-48D7-446C-B1D4-7696F717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ED21B-07A1-45DF-8EEC-4CEAB6D5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73A-F217-4D55-9116-C3B275C6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5C6D0-6C29-466C-A71C-3F6D909D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E80B9-7F82-4378-8433-EB608F9D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39770-B25D-4CCD-948B-38A402FC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FB517-6CC0-4657-9ACB-ADCEADCE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3D27E-3C30-4C24-AC4A-7DFAD33F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2457A-2488-4F27-90DA-EE40C9AB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2120F-87B7-42D6-9841-807C8C4D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2F497-E5C0-4D7B-A3FB-C3F67016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B7145-1806-4891-B70C-AB846F80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FC57A-2C61-457E-A342-87EDABBE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000-67C1-4EB4-809C-84787A3A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6696E-C5B8-4697-9A6C-4AA87B70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881CF-0E1F-4BDF-8B14-F3985157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830BF-CF0D-460F-9AB0-9726D672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D8022-53BC-46D9-B2B3-39620AEA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99F94-75F9-4509-A090-CAEAD544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B1BAD-1E37-4C3F-9050-C6EFA5A1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39513-0390-4F82-8DBF-0AEB1C63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60E66-C14F-41C9-8350-E43FF601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F77FC-19A9-48A3-9387-48485B83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29DFE-04C4-401B-9DD1-035DCCCF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ABE-435A-4144-B49F-87D0D2E7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4C18E-1A27-4770-87C1-85D61C6F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59F96-9887-4BBA-B6FA-37591DB2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CBD42-421D-4B94-A8D0-55B68D53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AD1E0-A207-40B5-8D62-61CD8D13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FDB9F-523D-458A-90FF-13104964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CEBFB-B366-4418-BC31-7F88688D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D44C4-043A-4540-811F-032E3C68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270B6-2BEE-415D-A966-E034C853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DF049-4142-427A-B8DB-CB74607C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137FD-E42C-4156-9F38-3E033A14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CB6-E31B-44C6-B487-4425B29F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BAD5E-2D7B-4701-AC34-AAECF33C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6798F-CA0B-4EE8-B6FB-0D9BAFAB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B3242-0B70-4543-A080-EC2E6A6A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8123E-9E70-4FFC-BDA9-84235E91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9DB9C-1DD5-4E98-8672-08A780DF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0C690-E4CF-49D2-B487-FDF7E2C5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E18B4-081F-4139-B480-F12F03CA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EC534-E956-44CE-866F-0C47A7D2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D79A4-1C64-418E-B9DB-7043FB60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DF469-B8F6-46EE-B4E6-E4A73970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FA0-1517-4E5F-8719-CD531E5E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E39FE-5F11-44EC-B608-DC74E5CA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F0797-110B-410A-AAD0-7BE3D5C2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8E88E-B968-4AB6-A06E-B454193A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51726-EB45-4A53-8E97-99957A3F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1A8C6-E21E-4F27-A7BF-873947E9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62E59-0E67-4E0B-A20A-3081D81B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5AE85-33B5-45A0-AD30-929C0489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F57AFB-E995-417B-A807-14C4BCF0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E4BCD-F52B-4929-AD03-EDA72E34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A3A60-55D3-4C2E-B3DB-7C0F7A9A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C1A4-7CD1-426C-B15D-E5E40E40583E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97DC-8481-4395-B872-ADA8A786BDFB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94DE-E35F-4D9B-8971-F11A8FB164AE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FB22-C7D9-4160-9AC4-728E0E90657B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44E4-EE8A-4EE4-B4BB-7717B2791C3E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4188-E912-439C-8C1F-FACEFE54329C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0D74-D7CE-44EF-A3D0-3400DE32041C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0B4E-B50B-4A86-8FD3-0788105C3A81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58EE-5308-421F-9E33-6874F57D3E9E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54FC-AB17-453D-84FC-A8FE3994B67C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0B75-C360-4D08-AC21-1226D83D933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78E6-865E-4314-BA88-8801F03F5F9E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66"/>
                </a:solidFill>
                <a:latin typeface="Georgia"/>
              </a:rPr>
              <a:t>“</a:t>
            </a:r>
            <a:r>
              <a:rPr b="1" lang="ru-RU" sz="2000" spc="-1" strike="noStrike">
                <a:solidFill>
                  <a:srgbClr val="666666"/>
                </a:solidFill>
                <a:latin typeface="Georgia"/>
              </a:rPr>
              <a:t>СЧАСТЛИВ ТОТ, КТО СЧАСТЛИВ У СЕБЯ ДОМА” (Л. Н. ТОЛСТОЙ)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388c"/>
                </a:solidFill>
                <a:latin typeface="Georgia"/>
              </a:rPr>
              <a:t>Как устроить мир в семье</a:t>
            </a:r>
            <a:endParaRPr b="0" lang="en-US" sz="4200" spc="-1" strike="noStrike">
              <a:solidFill>
                <a:srgbClr val="89006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32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666666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4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Georgia"/>
              </a:rPr>
              <a:t>«Взаимодействие в семье»</a:t>
            </a:r>
            <a:br>
              <a:rPr sz="4200"/>
            </a:br>
            <a:r>
              <a:rPr b="0" lang="ru-RU" sz="2700" spc="-1" strike="noStrike">
                <a:solidFill>
                  <a:srgbClr val="ffff00"/>
                </a:solidFill>
                <a:latin typeface="Georgia"/>
              </a:rPr>
              <a:t>1. Как часто ваша семья собирается дома?</a:t>
            </a:r>
            <a:endParaRPr b="0" lang="en-US" sz="2700" spc="-1" strike="noStrike">
              <a:solidFill>
                <a:srgbClr val="89006f"/>
              </a:solidFill>
              <a:latin typeface="Georgia"/>
            </a:endParaRPr>
          </a:p>
        </p:txBody>
      </p:sp>
      <p:pic>
        <p:nvPicPr>
          <p:cNvPr id="610" name="Диаграмма 4" descr=""/>
          <p:cNvPicPr/>
          <p:nvPr/>
        </p:nvPicPr>
        <p:blipFill>
          <a:blip r:embed="rId1"/>
          <a:stretch/>
        </p:blipFill>
        <p:spPr>
          <a:xfrm>
            <a:off x="560520" y="2298600"/>
            <a:ext cx="7205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1368000" y="3068640"/>
            <a:ext cx="6480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666666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Georgia"/>
              </a:rPr>
              <a:t>«Взаимодействие в семье»</a:t>
            </a:r>
            <a:br>
              <a:rPr sz="3800"/>
            </a:br>
            <a:r>
              <a:rPr b="0" lang="ru-RU" sz="2800" spc="-1" strike="noStrike">
                <a:solidFill>
                  <a:srgbClr val="ffff00"/>
                </a:solidFill>
                <a:latin typeface="Georgia"/>
              </a:rPr>
              <a:t>2. Что делает ваша семья, собравшись вместе?</a:t>
            </a:r>
            <a:endParaRPr b="0" lang="en-US" sz="2800" spc="-1" strike="noStrike">
              <a:solidFill>
                <a:srgbClr val="89006f"/>
              </a:solidFill>
              <a:latin typeface="Georgia"/>
            </a:endParaRPr>
          </a:p>
        </p:txBody>
      </p:sp>
      <p:pic>
        <p:nvPicPr>
          <p:cNvPr id="613" name="Диаграмма 3" descr=""/>
          <p:cNvPicPr/>
          <p:nvPr/>
        </p:nvPicPr>
        <p:blipFill>
          <a:blip r:embed="rId1"/>
          <a:stretch/>
        </p:blipFill>
        <p:spPr>
          <a:xfrm>
            <a:off x="344520" y="1938240"/>
            <a:ext cx="85266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666666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Georgia"/>
              </a:rPr>
              <a:t>«Взаимодействие в семье»</a:t>
            </a:r>
            <a:br>
              <a:rPr sz="3800"/>
            </a:br>
            <a:r>
              <a:rPr b="0" lang="ru-RU" sz="2800" spc="-1" strike="noStrike">
                <a:solidFill>
                  <a:srgbClr val="ffff00"/>
                </a:solidFill>
                <a:latin typeface="Georgia"/>
              </a:rPr>
              <a:t>3. Учитываешь ли ты мнение родителей при выборе друзей?</a:t>
            </a:r>
            <a:endParaRPr b="0" lang="en-US" sz="2800" spc="-1" strike="noStrike">
              <a:solidFill>
                <a:srgbClr val="89006f"/>
              </a:solidFill>
              <a:latin typeface="Georgia"/>
            </a:endParaRPr>
          </a:p>
        </p:txBody>
      </p:sp>
      <p:pic>
        <p:nvPicPr>
          <p:cNvPr id="616" name="Диаграмма 4" descr=""/>
          <p:cNvPicPr/>
          <p:nvPr/>
        </p:nvPicPr>
        <p:blipFill>
          <a:blip r:embed="rId1"/>
          <a:stretch/>
        </p:blipFill>
        <p:spPr>
          <a:xfrm>
            <a:off x="272880" y="1346040"/>
            <a:ext cx="859824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666666"/>
              </a:solidFill>
              <a:latin typeface="Georg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Georgia"/>
              </a:rPr>
              <a:t>«Взаимодействие в семье»</a:t>
            </a:r>
            <a:br>
              <a:rPr sz="4200"/>
            </a:br>
            <a:r>
              <a:rPr b="0" lang="ru-RU" sz="3100" spc="-1" strike="noStrike">
                <a:solidFill>
                  <a:srgbClr val="ffff00"/>
                </a:solidFill>
                <a:latin typeface="Georgia"/>
              </a:rPr>
              <a:t>4. Говоришь ли ты родителям правду?</a:t>
            </a:r>
            <a:endParaRPr b="0" lang="en-US" sz="3100" spc="-1" strike="noStrike">
              <a:solidFill>
                <a:srgbClr val="89006f"/>
              </a:solidFill>
              <a:latin typeface="Georgia"/>
            </a:endParaRPr>
          </a:p>
        </p:txBody>
      </p:sp>
      <p:pic>
        <p:nvPicPr>
          <p:cNvPr id="619" name="Диаграмма 4" descr=""/>
          <p:cNvPicPr/>
          <p:nvPr/>
        </p:nvPicPr>
        <p:blipFill>
          <a:blip r:embed="rId1"/>
          <a:stretch/>
        </p:blipFill>
        <p:spPr>
          <a:xfrm>
            <a:off x="344520" y="2225520"/>
            <a:ext cx="845496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666666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Georgia"/>
              </a:rPr>
              <a:t>«Взаимодействие в семье»</a:t>
            </a:r>
            <a:br>
              <a:rPr sz="3800"/>
            </a:br>
            <a:r>
              <a:rPr b="0" lang="ru-RU" sz="2800" spc="-1" strike="noStrike">
                <a:solidFill>
                  <a:srgbClr val="ffff00"/>
                </a:solidFill>
                <a:latin typeface="Georgia"/>
              </a:rPr>
              <a:t>5. Какие воспитательные меры родители применяют в отношении тебя?</a:t>
            </a:r>
            <a:endParaRPr b="0" lang="en-US" sz="2800" spc="-1" strike="noStrike">
              <a:solidFill>
                <a:srgbClr val="89006f"/>
              </a:solidFill>
              <a:latin typeface="Georgia"/>
            </a:endParaRPr>
          </a:p>
        </p:txBody>
      </p:sp>
      <p:pic>
        <p:nvPicPr>
          <p:cNvPr id="622" name="Диаграмма 3" descr=""/>
          <p:cNvPicPr/>
          <p:nvPr/>
        </p:nvPicPr>
        <p:blipFill>
          <a:blip r:embed="rId1"/>
          <a:stretch/>
        </p:blipFill>
        <p:spPr>
          <a:xfrm>
            <a:off x="-50760" y="2154240"/>
            <a:ext cx="924552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ffd7e8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9006f"/>
                </a:solidFill>
                <a:latin typeface="Georgia"/>
              </a:rPr>
              <a:t>Счастливая семья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24" name="Скругленный прямоугольник 3"/>
          <p:cNvSpPr/>
          <p:nvPr/>
        </p:nvSpPr>
        <p:spPr>
          <a:xfrm>
            <a:off x="2627280" y="5300640"/>
            <a:ext cx="3889440" cy="1008000"/>
          </a:xfrm>
          <a:prstGeom prst="roundRect">
            <a:avLst>
              <a:gd name="adj" fmla="val 16667"/>
            </a:avLst>
          </a:prstGeom>
          <a:solidFill>
            <a:srgbClr val="ec854c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сове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Скругленный прямоугольник 5"/>
          <p:cNvSpPr/>
          <p:nvPr/>
        </p:nvSpPr>
        <p:spPr>
          <a:xfrm>
            <a:off x="4572000" y="4365720"/>
            <a:ext cx="3600360" cy="9349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мудр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Скругленный прямоугольник 6"/>
          <p:cNvSpPr/>
          <p:nvPr/>
        </p:nvSpPr>
        <p:spPr>
          <a:xfrm>
            <a:off x="900000" y="4365720"/>
            <a:ext cx="3672000" cy="9349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Скругленный прямоугольник 7"/>
          <p:cNvSpPr/>
          <p:nvPr/>
        </p:nvSpPr>
        <p:spPr>
          <a:xfrm>
            <a:off x="2627280" y="3357720"/>
            <a:ext cx="3889440" cy="100800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труд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Скругленный прямоугольник 8"/>
          <p:cNvSpPr/>
          <p:nvPr/>
        </p:nvSpPr>
        <p:spPr>
          <a:xfrm>
            <a:off x="900000" y="2349360"/>
            <a:ext cx="3672000" cy="1008360"/>
          </a:xfrm>
          <a:prstGeom prst="roundRect">
            <a:avLst>
              <a:gd name="adj" fmla="val 16667"/>
            </a:avLst>
          </a:prstGeom>
          <a:solidFill>
            <a:srgbClr val="e366ff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лад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Скругленный прямоугольник 9"/>
          <p:cNvSpPr/>
          <p:nvPr/>
        </p:nvSpPr>
        <p:spPr>
          <a:xfrm>
            <a:off x="4572000" y="2349360"/>
            <a:ext cx="3600360" cy="1008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праздник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Скругленный прямоугольник 10"/>
          <p:cNvSpPr/>
          <p:nvPr/>
        </p:nvSpPr>
        <p:spPr>
          <a:xfrm>
            <a:off x="2700360" y="1341360"/>
            <a:ext cx="3672000" cy="1008000"/>
          </a:xfrm>
          <a:prstGeom prst="roundRect">
            <a:avLst>
              <a:gd name="adj" fmla="val 16667"/>
            </a:avLst>
          </a:prstGeom>
          <a:solidFill>
            <a:srgbClr val="2c71ff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08:47:59Z</dcterms:created>
  <dc:creator>user</dc:creator>
  <dc:description/>
  <dc:language>en-US</dc:language>
  <cp:lastModifiedBy>user</cp:lastModifiedBy>
  <dcterms:modified xsi:type="dcterms:W3CDTF">2014-01-03T08:42:30Z</dcterms:modified>
  <cp:revision>13</cp:revision>
  <dc:subject/>
  <dc:title>Как устроить мир в семье</dc:title>
</cp:coreProperties>
</file>